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7.png" ContentType="image/png"/>
  <Override PartName="/ppt/media/image32.jpeg" ContentType="image/jpeg"/>
  <Override PartName="/ppt/media/image1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5.png" ContentType="image/png"/>
  <Override PartName="/ppt/media/image24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48D-BF07-401E-A930-163FB9E0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92E-B780-4E2B-9FBE-637E5233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2C3-32C7-4581-90A6-304682E9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A2F-CC1B-4BB1-9C92-222B8A7C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75A-F18A-4816-B726-0B3D2738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160-3DF0-41AD-80F7-AC59ED5A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6A5-F8F0-42EE-95C4-1A706732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98A-916E-48D3-8ED0-199129C8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43B-F993-4DD2-9648-EFE7A00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6B3-13A5-471E-AC4F-65D3EE71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AE9-CFD1-4707-860E-A30E307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90B-A53B-431F-982B-6B1ECB4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74AC-245E-4A02-A8E7-68F50CBD203A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image" Target="../media/image2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8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Kapitał ludzki"/>
          <p:cNvPicPr/>
          <p:nvPr/>
        </p:nvPicPr>
        <p:blipFill>
          <a:blip r:embed="rId2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3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E1C9-ABB7-470C-AA41-D4DA3F22481D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Diagram 9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7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rostokąt 12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agram 5" descr=""/>
          <p:cNvPicPr/>
          <p:nvPr/>
        </p:nvPicPr>
        <p:blipFill>
          <a:blip r:embed="rId1"/>
          <a:stretch/>
        </p:blipFill>
        <p:spPr>
          <a:xfrm>
            <a:off x="-1047600" y="2597040"/>
            <a:ext cx="10343880" cy="2060640"/>
          </a:xfrm>
          <a:prstGeom prst="rect">
            <a:avLst/>
          </a:prstGeom>
          <a:ln w="0">
            <a:noFill/>
          </a:ln>
        </p:spPr>
      </p:pic>
      <p:sp>
        <p:nvSpPr>
          <p:cNvPr id="125" name="Prostokąt 8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11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0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iagram 6" descr=""/>
          <p:cNvPicPr/>
          <p:nvPr/>
        </p:nvPicPr>
        <p:blipFill>
          <a:blip r:embed="rId1"/>
          <a:stretch/>
        </p:blipFill>
        <p:spPr>
          <a:xfrm>
            <a:off x="-1268280" y="2444760"/>
            <a:ext cx="10204200" cy="25779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7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pole tekstowe 10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rostokąt 6"/>
          <p:cNvSpPr/>
          <p:nvPr/>
        </p:nvSpPr>
        <p:spPr>
          <a:xfrm>
            <a:off x="395280" y="404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brew stereotypowym przekonaniom stres nie niesie ze sobą tylko aspektu negatyw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8" descr="5128693306_df87f7d087_m.jpg"/>
          <p:cNvPicPr/>
          <p:nvPr/>
        </p:nvPicPr>
        <p:blipFill>
          <a:blip r:embed="rId2"/>
          <a:stretch/>
        </p:blipFill>
        <p:spPr>
          <a:xfrm>
            <a:off x="-6480" y="1335240"/>
            <a:ext cx="2206800" cy="2176200"/>
          </a:xfrm>
          <a:prstGeom prst="rect">
            <a:avLst/>
          </a:prstGeom>
          <a:ln w="0">
            <a:noFill/>
          </a:ln>
        </p:spPr>
      </p:pic>
      <p:pic>
        <p:nvPicPr>
          <p:cNvPr id="143" name="Obraz 9" descr="4480803194_11e14bf640_m.jpg"/>
          <p:cNvPicPr/>
          <p:nvPr/>
        </p:nvPicPr>
        <p:blipFill>
          <a:blip r:embed="rId3"/>
          <a:srcRect l="0" t="0" r="0" b="14698"/>
          <a:stretch/>
        </p:blipFill>
        <p:spPr>
          <a:xfrm>
            <a:off x="5796000" y="3716280"/>
            <a:ext cx="253188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179280" y="3800160"/>
            <a:ext cx="597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jednak stres pojawia się zbyt często i jest długotrwały, powoduje dezorganizację naszych działań. Może się okazać, że nawet najprostsze zadania są niewykonalne, przerastają nasze możliwości. Taki nadmierny i szkodliwy stres nazywamy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ystrese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Jeśli jego nasilenie jest zbyt mocne i utrzymuje się w czasie, może prowadzić w rezultacie do chorób psychosomatycznych (np. nadciśnienie, choroba wrzodowa, cukrzy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rostokąt 7"/>
          <p:cNvSpPr/>
          <p:nvPr/>
        </p:nvSpPr>
        <p:spPr>
          <a:xfrm>
            <a:off x="2050920" y="1341360"/>
            <a:ext cx="626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nstruktywny stres, niezbędny dla efektywnego funkcjonowania nazywamy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eustresem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uje on do pracy, nauki, wyzwala chęć do podejmowania trudnych zadań, zwiększa szybk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skuteczność działania. Mobilizuje w określonym czasie nasz organizm do wysiłku, powoduje, że czujemy, że jesteśmy w stanie przenosić góry. Kiedy zostaje już rozładowane napięcie emocjonalne towarzyszące stresowi, powraca spokój i pojaw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ię satysfak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raz 9" descr="sen2.jpg"/>
          <p:cNvPicPr/>
          <p:nvPr/>
        </p:nvPicPr>
        <p:blipFill>
          <a:blip r:embed="rId1"/>
          <a:stretch/>
        </p:blipFill>
        <p:spPr>
          <a:xfrm>
            <a:off x="4211640" y="1268280"/>
            <a:ext cx="3745080" cy="2637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2411280" y="45594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fizyczne napięcie ciał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ęk i zamęt w głow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owolnienie reflek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koncentracją i zdolnością normalnego myśle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burzenia koordynacji ruch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omina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ustanne zmęcze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czerp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rostokąt 3"/>
          <p:cNvSpPr/>
          <p:nvPr/>
        </p:nvSpPr>
        <p:spPr>
          <a:xfrm>
            <a:off x="250920" y="18900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potrzebuje do poprawnego funkcjonowania optymalnego poziomu stresu.  Optymalny poziom stresu to taki, w którym najlepiej nam się pracuje, kiedy czujemy się pełni energii i chęci do działania. Natomiast zbyt niski i wysoki poziom jest stanem zakłócającym i utrudniającym funkcjonowan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ostokąt 4"/>
          <p:cNvSpPr/>
          <p:nvPr/>
        </p:nvSpPr>
        <p:spPr>
          <a:xfrm>
            <a:off x="179280" y="1844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ojętność, zniechęcenie, apati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nudzenie, poczucie bezużyteczności, brak zainteresow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chęć do działania i niską sprawnoś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mawianie sobie, że wszystko jest bezsensow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wierdzenie, że proste prace mają wartość bardzo wysokich zada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5"/>
          <p:cNvSpPr/>
          <p:nvPr/>
        </p:nvSpPr>
        <p:spPr>
          <a:xfrm>
            <a:off x="196560" y="148428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yt niski poziom stresu może wywoła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6"/>
          <p:cNvSpPr/>
          <p:nvPr/>
        </p:nvSpPr>
        <p:spPr>
          <a:xfrm>
            <a:off x="2502000" y="422100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yt wysoki poziom stresu powod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Obraz 13" descr="5621211843_5c6d5d8735_m.jpg"/>
          <p:cNvPicPr/>
          <p:nvPr/>
        </p:nvPicPr>
        <p:blipFill>
          <a:blip r:embed="rId3"/>
          <a:stretch/>
        </p:blipFill>
        <p:spPr>
          <a:xfrm>
            <a:off x="755640" y="4292640"/>
            <a:ext cx="1773360" cy="2565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59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raz 5" descr="teamwork.jpg"/>
          <p:cNvPicPr/>
          <p:nvPr/>
        </p:nvPicPr>
        <p:blipFill>
          <a:blip r:embed="rId1"/>
          <a:stretch/>
        </p:blipFill>
        <p:spPr>
          <a:xfrm>
            <a:off x="3132000" y="3389400"/>
            <a:ext cx="5267520" cy="34686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990720" y="1856520"/>
            <a:ext cx="6922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świadomość dobrej formy i dobrego funkcjonow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dprężenie fizy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ybki refleks w podejmowaniu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okie zaangażowanie w pracę, łatwość w realizowaniu zad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ostrzona uwaga i wiara we własne możliw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ptymiz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ntuzjaz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taln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3"/>
          <p:cNvSpPr/>
          <p:nvPr/>
        </p:nvSpPr>
        <p:spPr>
          <a:xfrm>
            <a:off x="1979640" y="476280"/>
            <a:ext cx="48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ptymalny poziom stresu wywołuje pozytywne skutki, takie j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3"/>
          <p:cNvSpPr/>
          <p:nvPr/>
        </p:nvSpPr>
        <p:spPr>
          <a:xfrm>
            <a:off x="0" y="26028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Typ osobowośc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anego człowieka ma bezpośredni wpływ na to, w jaki sposób radzi on sobie z sytuacjami stresowymi oraz jaki rodzaj stresu może wyrządzić największe szko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4"/>
          <p:cNvSpPr/>
          <p:nvPr/>
        </p:nvSpPr>
        <p:spPr>
          <a:xfrm>
            <a:off x="971640" y="6021360"/>
            <a:ext cx="70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yp A narażony jest na choroby kardiologicz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yp C na choroby nowotwor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Diagram 10" descr=""/>
          <p:cNvPicPr/>
          <p:nvPr/>
        </p:nvPicPr>
        <p:blipFill>
          <a:blip r:embed="rId1"/>
          <a:stretch/>
        </p:blipFill>
        <p:spPr>
          <a:xfrm>
            <a:off x="-981000" y="1225440"/>
            <a:ext cx="10490040" cy="1994040"/>
          </a:xfrm>
          <a:prstGeom prst="rect">
            <a:avLst/>
          </a:prstGeom>
          <a:ln w="0">
            <a:noFill/>
          </a:ln>
        </p:spPr>
      </p:pic>
      <p:pic>
        <p:nvPicPr>
          <p:cNvPr id="171" name="Diagram 11" descr=""/>
          <p:cNvPicPr/>
          <p:nvPr/>
        </p:nvPicPr>
        <p:blipFill>
          <a:blip r:embed="rId2"/>
          <a:stretch/>
        </p:blipFill>
        <p:spPr>
          <a:xfrm>
            <a:off x="-835200" y="3243240"/>
            <a:ext cx="10491840" cy="1566720"/>
          </a:xfrm>
          <a:prstGeom prst="rect">
            <a:avLst/>
          </a:prstGeom>
          <a:ln w="0">
            <a:noFill/>
          </a:ln>
        </p:spPr>
      </p:pic>
      <p:pic>
        <p:nvPicPr>
          <p:cNvPr id="172" name="Diagram 12" descr=""/>
          <p:cNvPicPr/>
          <p:nvPr/>
        </p:nvPicPr>
        <p:blipFill>
          <a:blip r:embed="rId3"/>
          <a:stretch/>
        </p:blipFill>
        <p:spPr>
          <a:xfrm>
            <a:off x="-615960" y="4900680"/>
            <a:ext cx="10485360" cy="1055520"/>
          </a:xfrm>
          <a:prstGeom prst="rect">
            <a:avLst/>
          </a:prstGeom>
          <a:ln w="0">
            <a:noFill/>
          </a:ln>
        </p:spPr>
      </p:pic>
      <p:grpSp>
        <p:nvGrpSpPr>
          <p:cNvPr id="17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Obraz 5" descr="4770491776_d845cb072a_m.jpg"/>
          <p:cNvPicPr/>
          <p:nvPr/>
        </p:nvPicPr>
        <p:blipFill>
          <a:blip r:embed="rId1"/>
          <a:stretch/>
        </p:blipFill>
        <p:spPr>
          <a:xfrm>
            <a:off x="5796000" y="4386240"/>
            <a:ext cx="2471760" cy="2471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923120" y="5163120"/>
            <a:ext cx="44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skłonność do poświęc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zwykle uprzej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bierna w obliczu stre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ustępliwa i skrywa emocji, szczegól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 negatywne, np. zł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5631752624_ebd917278c_m.jpg"/>
          <p:cNvPicPr/>
          <p:nvPr/>
        </p:nvPicPr>
        <p:blipFill>
          <a:blip r:embed="rId2"/>
          <a:stretch/>
        </p:blipFill>
        <p:spPr>
          <a:xfrm>
            <a:off x="5435640" y="476280"/>
            <a:ext cx="2808360" cy="1965240"/>
          </a:xfrm>
          <a:prstGeom prst="rect">
            <a:avLst/>
          </a:prstGeom>
          <a:ln w="0">
            <a:noFill/>
          </a:ln>
        </p:spPr>
      </p:pic>
      <p:sp>
        <p:nvSpPr>
          <p:cNvPr id="181" name="Prostokąt 7"/>
          <p:cNvSpPr/>
          <p:nvPr/>
        </p:nvSpPr>
        <p:spPr>
          <a:xfrm>
            <a:off x="179280" y="476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iągle dąży do perfekcj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silną chęć rywalizacji, wysokie ambicje, potrzebę osiągnię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agresywna, niecierpliw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dużą potrzebę niezależnoś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echuje się chronicznym brakiem zadowolenia ze swoich poczynań i osiągnię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znacza sobie cele i terminy trudne do osiągnię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rostokąt 8"/>
          <p:cNvSpPr/>
          <p:nvPr/>
        </p:nvSpPr>
        <p:spPr>
          <a:xfrm>
            <a:off x="1692360" y="3573360"/>
            <a:ext cx="66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trwale i konsekwentnie dąży do realizacji wyznaczonych cel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niej się ekscyt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ealnie ocenia swoje szanse i możliwości, pracuje w swoim temp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9"/>
          <p:cNvSpPr/>
          <p:nvPr/>
        </p:nvSpPr>
        <p:spPr>
          <a:xfrm>
            <a:off x="69840" y="189000"/>
            <a:ext cx="32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 typ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10"/>
          <p:cNvSpPr/>
          <p:nvPr/>
        </p:nvSpPr>
        <p:spPr>
          <a:xfrm>
            <a:off x="1707120" y="328464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typu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11"/>
          <p:cNvSpPr/>
          <p:nvPr/>
        </p:nvSpPr>
        <p:spPr>
          <a:xfrm>
            <a:off x="1851120" y="486900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typu 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7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15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1368360" cy="156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1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Obraz 5" descr="4430991499_403c8e8bcd_m.jpg"/>
          <p:cNvPicPr/>
          <p:nvPr/>
        </p:nvPicPr>
        <p:blipFill>
          <a:blip r:embed="rId1"/>
          <a:stretch/>
        </p:blipFill>
        <p:spPr>
          <a:xfrm>
            <a:off x="179280" y="1989000"/>
            <a:ext cx="2438640" cy="39322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2411280" y="1850040"/>
            <a:ext cx="58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analizę logiczną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strzeganie sytuacji w sposób tak realistyczny, jak tylko jest to możliw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nowną ocenę lub przeformułowa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strzeganie sytuacji z innego punktu widzenia i próba dostrzeżenia jej dobrych s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rzyjmowanie odpowiedzialnośc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zejmowanie kontroli i znajdowanie własnego miejs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szukiwanie pomocy i wsparci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oszenie o pomoc np. specjalis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rozwiązywanie problemów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opracowywanie alternatyw, dokonywanie wyborów i ocena wyni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ieranie informacj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bieranie dodatkowych informacji o stresorach w celu łatwiejszego radzenia sobie z n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rostokąt 3"/>
          <p:cNvSpPr/>
          <p:nvPr/>
        </p:nvSpPr>
        <p:spPr>
          <a:xfrm>
            <a:off x="324000" y="333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ększość psychologów dzieli metody radzenia sobie ze stresem na dwie kategorie: </a:t>
            </a:r>
            <a:r>
              <a:rPr b="1" lang="pl-PL" sz="20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rocesy zbliżania i procesy unik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4"/>
          <p:cNvSpPr/>
          <p:nvPr/>
        </p:nvSpPr>
        <p:spPr>
          <a:xfrm>
            <a:off x="259560" y="141300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zbliżeniowe obejmu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3"/>
          <p:cNvSpPr/>
          <p:nvPr/>
        </p:nvSpPr>
        <p:spPr>
          <a:xfrm>
            <a:off x="179280" y="47628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unikania nie wymagają od nas takiej aktywności, polegają bardzi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 radzeniu sobie w sposób bardziej pośred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4"/>
          <p:cNvSpPr/>
          <p:nvPr/>
        </p:nvSpPr>
        <p:spPr>
          <a:xfrm>
            <a:off x="220680" y="1557360"/>
            <a:ext cx="27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unikani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raz 6" descr="4431759542_a81fef43e0_m.jpg"/>
          <p:cNvPicPr/>
          <p:nvPr/>
        </p:nvPicPr>
        <p:blipFill>
          <a:blip r:embed="rId1"/>
          <a:stretch/>
        </p:blipFill>
        <p:spPr>
          <a:xfrm>
            <a:off x="0" y="1989000"/>
            <a:ext cx="3328920" cy="3329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"/>
          <p:cNvSpPr/>
          <p:nvPr/>
        </p:nvSpPr>
        <p:spPr>
          <a:xfrm>
            <a:off x="3203640" y="2334600"/>
            <a:ext cx="51116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aprzeczenie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odmowa przyznania tego, że problem istnie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nik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unikanie potencjalnego źródła stre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dwrócenie uwagi lub poszukiwanie metod zastępczych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óba znalezienia satysfakcji w inny sposób, jak np. odreagowanie stresu związa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pracą poprzez obejrzenie dobrej komedii czy uprawianie sport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wentylowanie emocj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krzyki, depresja, zamartwianie si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spokoje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mniejszenie poczucia napięcia poprzez narkotyki, alkohol, seks, przejadanie się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79280" y="32857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osobów radzenia sobie ze stresem jest wiele, dlatego między ludźmi istnieje dość duże zróżnicowanie w ich wykorzystywaniu. Niektórzy podejmują działania, które mają za zadanie zwalczyć stres, uporać się z trudnościami, inni natomiast ograniczają się do obrony, tzn. do poprawienia swojego samopoczucia, opanowania objawów stresu. Pierwszą z postaw można nazwać walczącą, drugą obronn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3" descr="5328008843_b770e7d995_m.jpg"/>
          <p:cNvPicPr/>
          <p:nvPr/>
        </p:nvPicPr>
        <p:blipFill>
          <a:blip r:embed="rId1"/>
          <a:stretch/>
        </p:blipFill>
        <p:spPr>
          <a:xfrm>
            <a:off x="0" y="0"/>
            <a:ext cx="3048120" cy="303516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5"/>
          <p:cNvSpPr/>
          <p:nvPr/>
        </p:nvSpPr>
        <p:spPr>
          <a:xfrm>
            <a:off x="2700360" y="404640"/>
            <a:ext cx="54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inaczej reaguje na stres. Jedni miotają się bezładnie, inni stają się agresywni, a jeszcze inni wycofują się i zamykają w sob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leży pamiętać, że zdolność pokonywania stresu zmienia się w miarę rozwoju zawodowego. Wykonując coraz trudniejsze zadania w sytuacjach stresujących, uczymy się wykonywać zadania jeszcze lepiej i tym samym nabywamy odporności na stres. Jednym słowem nie można uodpornić się na stres, unikając sytuacji stresując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6"/>
          <p:cNvSpPr/>
          <p:nvPr/>
        </p:nvSpPr>
        <p:spPr>
          <a:xfrm>
            <a:off x="971640" y="48690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hcąc poradzić sobie ze stresem, powinniśmy przede wszystkim ustalić własny poziom stresu, a więc to, co dla nas jest przyjemne lub nie, co stanowi zagrożenie lub przeszkodę. Powinniśmy również poznać, które aspekty naszej osobowości są szczególnie podatne na zranienie – brak sukcesów lub nadmierna ambicja, samoocena, oczekiwanie aprobaty czy np. deficyt w zakresie komunikowania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755640" y="847080"/>
            <a:ext cx="720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ze życie jest pełne pośpiechu i zmian, wyzwań i zagrożeń. Aby normalnie funkcjonować, musimy zrozumieć i przetworzyć tysiące informacji. Zmuszeni do nieustannej aktywności codziennie otrzymujemy znaczną dawkę stresu – w domu, szkole i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es jest nieuniknioną częścią naszego życia. Aby móc radzić sobie w trudnych sytuacjach i umieć korzystać z tego, co w stresie jest pozytywne, warto wiedzieć o tym zjawisku jak najwięc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a 9"/>
          <p:cNvGrpSpPr/>
          <p:nvPr/>
        </p:nvGrpSpPr>
        <p:grpSpPr>
          <a:xfrm>
            <a:off x="0" y="5950080"/>
            <a:ext cx="755640" cy="907920"/>
            <a:chOff x="0" y="5950080"/>
            <a:chExt cx="755640" cy="907920"/>
          </a:xfrm>
        </p:grpSpPr>
        <p:pic>
          <p:nvPicPr>
            <p:cNvPr id="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50080"/>
              <a:ext cx="7556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pole tekstowe 7"/>
            <p:cNvSpPr/>
            <p:nvPr/>
          </p:nvSpPr>
          <p:spPr>
            <a:xfrm>
              <a:off x="116640" y="6229080"/>
              <a:ext cx="58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3267000" cy="339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5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braz 7" descr="6111973715_5478784772_m.jpg"/>
          <p:cNvPicPr/>
          <p:nvPr/>
        </p:nvPicPr>
        <p:blipFill>
          <a:blip r:embed="rId1"/>
          <a:stretch/>
        </p:blipFill>
        <p:spPr>
          <a:xfrm>
            <a:off x="0" y="2133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2843280" y="1542600"/>
            <a:ext cx="532908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wtarz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uczestnicząc w pewnym zdarzeniu wiele razy, np. rozmowie kwalifikacyjnej, publicznym wystąpieniu, możemy osiągnąć określony poziom swobody, pewności siebie, który pozwoli na pełną ekspresję naszych możliwośc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lanow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dokonując analizy wyimaginowanych przyczyn wywołujących stres, możemy dokonać również analizy możliwych sposobów odpowiedzi, reakcji na te zdarzenia, np. przygotowując się do rozmowy kwalifikacyjnej, rozmowy z pracodawc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 podwyż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nika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jeśli określone zdarzenie będzie miało dla nas na pewno nieprzyjemny przebieg, a jednocześnie nie przyniesie żdnych korzyści, próba uniknięcia go jest optymalnym rozwiązani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rostokąt 6"/>
          <p:cNvSpPr/>
          <p:nvPr/>
        </p:nvSpPr>
        <p:spPr>
          <a:xfrm>
            <a:off x="0" y="76500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ntrolę poziomu stresu możemy osiągnąć m.in. poprz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900000" y="48027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o zasobów społecz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które zapewniają nam wsparcie, informacje i sugestie dotyczące rozwiązania problemu, zaliczymy m.in. członków rodziny, przyjaciół, partnerów, współpracownik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 radzeniu sobie ze stresem należy również uwzględnić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asoby środowiskow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pieniądze, schronienie, opiekę zdrowotną, 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rostokąt 6"/>
          <p:cNvSpPr/>
          <p:nvPr/>
        </p:nvSpPr>
        <p:spPr>
          <a:xfrm>
            <a:off x="0" y="33336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adzenie sobie ze stres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rostokąt 7"/>
          <p:cNvSpPr/>
          <p:nvPr/>
        </p:nvSpPr>
        <p:spPr>
          <a:xfrm>
            <a:off x="179280" y="90792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dolność, jaką posiadamy do radzenia sobie ze stresem, określimy mianem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dpornoś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Nasza odporność jest wynikiem interakcji pomiędzy naszymi osobistymi i społecznymi zasobami a naszymi próbami radzenia sob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rostokąt 8"/>
          <p:cNvSpPr/>
          <p:nvPr/>
        </p:nvSpPr>
        <p:spPr>
          <a:xfrm>
            <a:off x="179280" y="2349360"/>
            <a:ext cx="30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o zasobów osobistych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żemy zaliczyć m.in. stałe cechy osobowości oraz poglądy i podejście do życia, które mogą pomóc nam w zwalczaniu wpływu stresu. Istotne również s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9"/>
          <p:cNvSpPr/>
          <p:nvPr/>
        </p:nvSpPr>
        <p:spPr>
          <a:xfrm>
            <a:off x="3348000" y="2421000"/>
            <a:ext cx="4896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amoocen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oparta na doświadczeniu wiara, że będziemy w stanie podołać sytuac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ptymiz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pełne nadziei spoglądanie w przyszłość i oczekiwanie pozytywnych wyni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wewnętrzne umiejscowienie kontrol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gląd, że pewne rzeczy są pod naszą kontrol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36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Obraz 11" descr="4095172484_9430062b54_m.jpg"/>
          <p:cNvPicPr/>
          <p:nvPr/>
        </p:nvPicPr>
        <p:blipFill>
          <a:blip r:embed="rId1"/>
          <a:stretch/>
        </p:blipFill>
        <p:spPr>
          <a:xfrm>
            <a:off x="4780080" y="3565440"/>
            <a:ext cx="3614760" cy="3299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250920" y="2355480"/>
            <a:ext cx="78850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olbrzymiamy znaczenie sytuac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ążemy z danym wydarzeniem nieproporcjonalnie duże nadzieje na sukces, awans, korzyści finansow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anga wydarzenia wzrasta z powodu obecności ważnych dla nas osób, rodziny, przyjaciół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pole tekstowe 6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rostokąt 7"/>
          <p:cNvSpPr/>
          <p:nvPr/>
        </p:nvSpPr>
        <p:spPr>
          <a:xfrm>
            <a:off x="0" y="54936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niżanie rangi zdar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rostokąt 8"/>
          <p:cNvSpPr/>
          <p:nvPr/>
        </p:nvSpPr>
        <p:spPr>
          <a:xfrm>
            <a:off x="179280" y="1197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elokrotnie zdarza się, że z powodu pewnych czynników nadajemy określonej sprawie niewspółmiernie dużą rangę, powodując tym samym wzrost poziomu stres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rostokąt 9"/>
          <p:cNvSpPr/>
          <p:nvPr/>
        </p:nvSpPr>
        <p:spPr>
          <a:xfrm>
            <a:off x="826920" y="436572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ma jednej uniwersalnej recepty na skuteczne poradzenie sobie ze stresem. Specjaliści proponują nam kilka sposobów radzenia sobie z napięciem wywołanym stresem, są to m.in. ćwiczenia fizyczne, techniki relaksacyjne oraz konstruktywne postrzeganie rzeczywist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265320" y="206064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zieje się tak wówczas, kie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47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Obraz 7" descr="6073497112_b682fbcda2_m.jpg"/>
          <p:cNvPicPr/>
          <p:nvPr/>
        </p:nvPicPr>
        <p:blipFill>
          <a:blip r:embed="rId1"/>
          <a:srcRect l="24902" t="0" r="0" b="0"/>
          <a:stretch/>
        </p:blipFill>
        <p:spPr>
          <a:xfrm>
            <a:off x="0" y="1989000"/>
            <a:ext cx="2712960" cy="35974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2340000" y="1219320"/>
            <a:ext cx="608328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bywanie na świeżym powietrz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rawianie sobie co jakiś czas małych przyjemności – poprawia to nastrój i relaks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zmowa z bliską osobą, psychologiem – z kimś, kto okaże nam wsparcie i zrozumie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ktywny styl życia, uprawianie sport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órcze myślenie, które powoduje, że przyjmujemy twórczą postawę wobec siebie i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humor – rozładowuje napięcie, obniża lę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dpowiednie odżywianie się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miejętne zarządzanie sobą w czas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ealizm życiowy, stawianie sobie wysokich, ale możliwych do wykonania zad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zytywne myślenie o sob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bienie rzeczy, które sprawiają nam przyjem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rostokąt 6"/>
          <p:cNvSpPr/>
          <p:nvPr/>
        </p:nvSpPr>
        <p:spPr>
          <a:xfrm>
            <a:off x="250920" y="333360"/>
            <a:ext cx="78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ne metody, które sprawią, że poprawi się nam samopoczucie psychiczne i fizyczne, np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55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250920" y="314424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jednak stres pojawia się zbyt często i jest długotrwały, może stanowić zagrożenie dla naszego życia zawodowego i osobistego, a nawet dla zdrowia. Dlatego warto nauczyć się radzić sobie ze stres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2"/>
          <p:cNvSpPr/>
          <p:nvPr/>
        </p:nvSpPr>
        <p:spPr>
          <a:xfrm>
            <a:off x="2124000" y="549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koń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pole tekstowe 6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Obraz 8" descr="3410853297_8108a63d75_m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781360"/>
          </a:xfrm>
          <a:prstGeom prst="rect">
            <a:avLst/>
          </a:prstGeom>
          <a:ln w="0">
            <a:noFill/>
          </a:ln>
        </p:spPr>
      </p:pic>
      <p:sp>
        <p:nvSpPr>
          <p:cNvPr id="262" name="Prostokąt 9"/>
          <p:cNvSpPr/>
          <p:nvPr/>
        </p:nvSpPr>
        <p:spPr>
          <a:xfrm>
            <a:off x="2987640" y="141300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es nie jest zjawiskiem wyłącznie negatywnym. Każdy z nas potrzebuje do poprawnego funkcjonowania optymalnego poziomu stresu, czyli takiego, w którym najlepiej nam się pracuje, kiedy czujemy się pełni energii i chęci do działa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rostokąt 10"/>
          <p:cNvSpPr/>
          <p:nvPr/>
        </p:nvSpPr>
        <p:spPr>
          <a:xfrm>
            <a:off x="179280" y="436572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amiętaj jednak, że każdy jest inny, inne sytuacje są dla nas stresujące, różna jest nasza odporność na stres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różne metody radzenia sobie z nim mogą być dla każdego z nas skutecz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1687680" cy="2746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66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rostokąt 7"/>
          <p:cNvSpPr/>
          <p:nvPr/>
        </p:nvSpPr>
        <p:spPr>
          <a:xfrm>
            <a:off x="250920" y="26028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szyscy doświadczyliśmy stresu, tego nieprzyjemnego uczucia, gdy wydawało się nam, że sytuacja nas przerasta, że nie podołamy jakiemuś wyzwaniu lub zadaniu, że coś jest po prostu dla nas zbyt trud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8"/>
          <p:cNvSpPr/>
          <p:nvPr/>
        </p:nvSpPr>
        <p:spPr>
          <a:xfrm>
            <a:off x="468360" y="357336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, czy uznamy dane zdarzenie za stresujące, w większości przypadków zależy od naszego indywidualnego podejścia, od naszego przekonania, czy poradzimy sobie z daną sytuacj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a nowa sytuacja w naszym życiu to potencjalne źródło stresów, wszystko, co niecodzienne, nienaturalne, nieznane sprawia, że serce szybciej nam bije, pocą nam się dłonie, drży głos, nasz organizm wydziela adrenalin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Życie bez stresu jest nie tylko niemożliwe, ale też wcale nie jest zdrowe dla naszego organiz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ewna dawka stresu jest nam potrzebna, to on stymuluje nas do działania, sprawia, że nasze życie nie jest nu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upa 9"/>
          <p:cNvGrpSpPr/>
          <p:nvPr/>
        </p:nvGrpSpPr>
        <p:grpSpPr>
          <a:xfrm>
            <a:off x="971640" y="1557360"/>
            <a:ext cx="6624720" cy="1520640"/>
            <a:chOff x="971640" y="1557360"/>
            <a:chExt cx="6624720" cy="1520640"/>
          </a:xfrm>
        </p:grpSpPr>
        <p:sp>
          <p:nvSpPr>
            <p:cNvPr id="62" name="Prostokąt zaokrąglony 10"/>
            <p:cNvSpPr/>
            <p:nvPr/>
          </p:nvSpPr>
          <p:spPr>
            <a:xfrm>
              <a:off x="971640" y="1557360"/>
              <a:ext cx="6624720" cy="1520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c22e3d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pole tekstowe 11"/>
            <p:cNvSpPr/>
            <p:nvPr/>
          </p:nvSpPr>
          <p:spPr>
            <a:xfrm>
              <a:off x="971640" y="1658520"/>
              <a:ext cx="662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jest odpowiedzią naszego organizmu na jakieś zdarzenie (stresor), ale nie wynika wyłącznie z obiektywnych warunków otoczenia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65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rostokąt 11"/>
          <p:cNvSpPr/>
          <p:nvPr/>
        </p:nvSpPr>
        <p:spPr>
          <a:xfrm>
            <a:off x="179280" y="26028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psychologii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</a:t>
            </a:r>
            <a:r>
              <a:rPr b="0" lang="pl-PL" sz="1800" spc="-1" strike="noStrike">
                <a:solidFill>
                  <a:srgbClr val="ff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to stan ogólnej mobilizacji naszego organizmu oraz jego odpowiedź na silny bodziec fizyczny lub psychiczny (stres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órcą pojęcia stresu jest kanadyjski fizjolog Hans Selye, który nazwał tak nieswoistą reakcję organizmu na działanie szkodliwych bodźców zwanych stresor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rostokąt 12"/>
          <p:cNvSpPr/>
          <p:nvPr/>
        </p:nvSpPr>
        <p:spPr>
          <a:xfrm>
            <a:off x="324000" y="1700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dług teorii Selye’a kiedy stykamy się z sytuacją zagrażającą naszej cielesnej lub umysłowej równowadze, przechodzimy serię zmian, na którą składają się następujące fa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Diagram 13" descr=""/>
          <p:cNvPicPr/>
          <p:nvPr/>
        </p:nvPicPr>
        <p:blipFill>
          <a:blip r:embed="rId2"/>
          <a:stretch/>
        </p:blipFill>
        <p:spPr>
          <a:xfrm>
            <a:off x="-255600" y="2736720"/>
            <a:ext cx="9588600" cy="1305000"/>
          </a:xfrm>
          <a:prstGeom prst="rect">
            <a:avLst/>
          </a:prstGeom>
          <a:ln w="0">
            <a:noFill/>
          </a:ln>
        </p:spPr>
      </p:pic>
      <p:pic>
        <p:nvPicPr>
          <p:cNvPr id="72" name="Diagram 14" descr=""/>
          <p:cNvPicPr/>
          <p:nvPr/>
        </p:nvPicPr>
        <p:blipFill>
          <a:blip r:embed="rId3"/>
          <a:stretch/>
        </p:blipFill>
        <p:spPr>
          <a:xfrm>
            <a:off x="-255600" y="4035600"/>
            <a:ext cx="9588600" cy="1298520"/>
          </a:xfrm>
          <a:prstGeom prst="rect">
            <a:avLst/>
          </a:prstGeom>
          <a:ln w="0">
            <a:noFill/>
          </a:ln>
        </p:spPr>
      </p:pic>
      <p:pic>
        <p:nvPicPr>
          <p:cNvPr id="73" name="Diagram 15" descr=""/>
          <p:cNvPicPr/>
          <p:nvPr/>
        </p:nvPicPr>
        <p:blipFill>
          <a:blip r:embed="rId4"/>
          <a:stretch/>
        </p:blipFill>
        <p:spPr>
          <a:xfrm>
            <a:off x="-255600" y="5376960"/>
            <a:ext cx="9588600" cy="129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1"/>
          <p:cNvSpPr/>
          <p:nvPr/>
        </p:nvSpPr>
        <p:spPr>
          <a:xfrm>
            <a:off x="0" y="90972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8360" y="1916280"/>
          <a:ext cx="7488360" cy="468000"/>
        </p:xfrm>
        <a:graphic>
          <a:graphicData uri="http://schemas.openxmlformats.org/drawingml/2006/table">
            <a:tbl>
              <a:tblPr/>
              <a:tblGrid>
                <a:gridCol w="1944720"/>
                <a:gridCol w="5543640"/>
              </a:tblGrid>
              <a:tr h="468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</a:rPr>
                        <a:t>Po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</a:rPr>
                        <a:t>Defini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8360" y="2349360"/>
          <a:ext cx="7488360" cy="1224000"/>
        </p:xfrm>
        <a:graphic>
          <a:graphicData uri="http://schemas.openxmlformats.org/drawingml/2006/table">
            <a:tbl>
              <a:tblPr/>
              <a:tblGrid>
                <a:gridCol w="1942920"/>
                <a:gridCol w="5545440"/>
              </a:tblGrid>
              <a:tr h="122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spół specyficznych i niespecyficznych reakcji organizmu na zdarzenia bodźcowe, które zakłócają jego równowagę i wystawiają na próbę lub przekraczają jego zdolności do radzenia sobi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68360" y="3573360"/>
          <a:ext cx="7488360" cy="1000080"/>
        </p:xfrm>
        <a:graphic>
          <a:graphicData uri="http://schemas.openxmlformats.org/drawingml/2006/table">
            <a:tbl>
              <a:tblPr/>
              <a:tblGrid>
                <a:gridCol w="1942920"/>
                <a:gridCol w="5545440"/>
              </a:tblGrid>
              <a:tr h="100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wnętrzne lub zewnętrzne wydarzenie, bodziec wywołujący st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pic>
        <p:nvPicPr>
          <p:cNvPr id="83" name="Obraz 6" descr="wykrzyknik.jpg"/>
          <p:cNvPicPr/>
          <p:nvPr/>
        </p:nvPicPr>
        <p:blipFill>
          <a:blip r:embed="rId2"/>
          <a:stretch/>
        </p:blipFill>
        <p:spPr>
          <a:xfrm>
            <a:off x="5138640" y="689040"/>
            <a:ext cx="95112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85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rostokąt 6"/>
          <p:cNvSpPr/>
          <p:nvPr/>
        </p:nvSpPr>
        <p:spPr>
          <a:xfrm>
            <a:off x="250920" y="83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zisiejszym społeczeństwie źródeł stresu jest wiele. O tym, czy dana sytuacja jest dla nas  stresująca i jak duży stres ona wywołuje, decyduje przede wszystkim sposób, w jaki ją postrzega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raz 8" descr="5520352624_eea85d8d12_m.jpg"/>
          <p:cNvPicPr/>
          <p:nvPr/>
        </p:nvPicPr>
        <p:blipFill>
          <a:blip r:embed="rId2"/>
          <a:srcRect l="7711" t="0" r="0" b="0"/>
          <a:stretch/>
        </p:blipFill>
        <p:spPr>
          <a:xfrm>
            <a:off x="0" y="1989000"/>
            <a:ext cx="2158920" cy="3899160"/>
          </a:xfrm>
          <a:prstGeom prst="rect">
            <a:avLst/>
          </a:prstGeom>
          <a:ln w="0">
            <a:noFill/>
          </a:ln>
        </p:spPr>
      </p:pic>
      <p:sp>
        <p:nvSpPr>
          <p:cNvPr id="91" name="Prostokąt 7"/>
          <p:cNvSpPr/>
          <p:nvPr/>
        </p:nvSpPr>
        <p:spPr>
          <a:xfrm>
            <a:off x="684360" y="242100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stresogenne (źródła stresu) możemy podzielić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1692360" y="3009600"/>
            <a:ext cx="64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Czynniki zewnętrzn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(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ory obiektywn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do nich zaliczymy te czynniki stresogenne, które oddziałują na nasz organizm (ducha i ciało) niezależnie od naszego świadomego postrzegania, np. presja środowiska, przytłaczająca liczba zajęć, zmiana szkoły, mieszkania, złe warunki pracy, niepokój o pracę lub jej utrata, ograniczenie swobody działania, odpowiedzialność za innych, monotonia pracy, hałas, zatłoczenie, zanieczyszczenie środowiska, działanie żywiołów, ekstremalne zimno bądź gorąco, choroba, śmierć, rozwód, nadwa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rostokąt 6"/>
          <p:cNvSpPr/>
          <p:nvPr/>
        </p:nvSpPr>
        <p:spPr>
          <a:xfrm>
            <a:off x="250920" y="83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zisiejszym społeczeństwie źródeł stresu jest wiele. To, czy dana sytuacja jest dla nas  stresująca i jak duży stres ona wywołuje, decyduje przede wszystkim sposób, w jaki ją postrzega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az 8" descr="5520352624_eea85d8d12_m.jpg"/>
          <p:cNvPicPr/>
          <p:nvPr/>
        </p:nvPicPr>
        <p:blipFill>
          <a:blip r:embed="rId2"/>
          <a:srcRect l="7711" t="0" r="0" b="0"/>
          <a:stretch/>
        </p:blipFill>
        <p:spPr>
          <a:xfrm>
            <a:off x="0" y="1989000"/>
            <a:ext cx="2158920" cy="389916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84360" y="227664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stresogenne (źródła stresu) możemy podzielić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1692360" y="2654640"/>
            <a:ext cx="648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Czynniki wewnętrzn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(tkwiące w jednostce,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ory subiektywn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) są to zdarzenia zachodzące w naszym otoczeniu, które odbieramy świadomą częścią umysłu, oraz nasze stany psychiczne, które powodują uruchomienie reakcji stresowy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p. frustracja (niespełnienie pragnień, niezaspokojenie potrzeb), depresja (przygnębienie, zniechęcenie, rezygnacja), nadmier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b niedostateczne pobudzenie motywacyjne, nadmiar informacji, przeciążenie aktywnością, niepewność, destabilizacja, presja czasu, brak celu, nuda, rutyna, nadmierne wymagania otoczenia, problemy w kontaktach międzyludzkich (nieśmiałość, upokorzenie, lęk przed kompromitacją, wstyd, trema), relacje społeczne, konflikty interpersonalne, zdarzenia życia codziennego (codzienne uciążliwości i kłopoty), zmiany sytuacji życiowej (momenty krytyczne w naszym życ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03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raz 5" descr="5839014005_341491e809_m.jpg"/>
          <p:cNvPicPr/>
          <p:nvPr/>
        </p:nvPicPr>
        <p:blipFill>
          <a:blip r:embed="rId1"/>
          <a:stretch/>
        </p:blipFill>
        <p:spPr>
          <a:xfrm>
            <a:off x="0" y="2781360"/>
            <a:ext cx="3370320" cy="2851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1116000" y="54493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ługotrwały stres powoduje utratę równowagi psychicznej, obniża zdolność do pracy i prawidłowe funkcjonowanie, oddziałuje na zdrow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 w skrajnych przypadkach jest powodem chorób i śmier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Dowolny kształt 3"/>
          <p:cNvGrpSpPr/>
          <p:nvPr/>
        </p:nvGrpSpPr>
        <p:grpSpPr>
          <a:xfrm>
            <a:off x="3906720" y="244440"/>
            <a:ext cx="4140360" cy="4930920"/>
            <a:chOff x="3906720" y="244440"/>
            <a:chExt cx="4140360" cy="4930920"/>
          </a:xfrm>
        </p:grpSpPr>
        <p:pic>
          <p:nvPicPr>
            <p:cNvPr id="107" name="Dowolny kształt 3" descr=""/>
            <p:cNvPicPr/>
            <p:nvPr/>
          </p:nvPicPr>
          <p:blipFill>
            <a:blip r:embed="rId2"/>
            <a:stretch/>
          </p:blipFill>
          <p:spPr>
            <a:xfrm>
              <a:off x="3906720" y="244440"/>
              <a:ext cx="4140360" cy="49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924360" y="260280"/>
              <a:ext cx="4103640" cy="48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ory subiektywne</a:t>
              </a:r>
              <a:r>
                <a:rPr b="0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mogą one u niektórych osób w ogóle nie wywoływać reakcji stresowej Na przykład niespełnienie pewnej potrzeby (np. nowy komputer, samochód) dla jednej osoby jest źródłem silnej frustracji i powodem do uznania siebie za osobę nieszczęśliwą, a dla innej może być niemal niezauważalnym drobiazgi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tres ma ogromny wpływ na ogólną naszą kondycję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ezpośrednia reakcja organizmu na stres ma charakter fizyczny i przejawia się wydzielaniem adrenaliny i glukozy, przestaje funkcjonować układ trawienia, serce pompuje krew do istotnych narządów i mięśni.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Dowolny kształt 4"/>
          <p:cNvGrpSpPr/>
          <p:nvPr/>
        </p:nvGrpSpPr>
        <p:grpSpPr>
          <a:xfrm>
            <a:off x="1530360" y="244440"/>
            <a:ext cx="2054160" cy="2773440"/>
            <a:chOff x="1530360" y="244440"/>
            <a:chExt cx="2054160" cy="2773440"/>
          </a:xfrm>
        </p:grpSpPr>
        <p:pic>
          <p:nvPicPr>
            <p:cNvPr id="110" name="Dowolny kształt 4" descr=""/>
            <p:cNvPicPr/>
            <p:nvPr/>
          </p:nvPicPr>
          <p:blipFill>
            <a:blip r:embed="rId3"/>
            <a:stretch/>
          </p:blipFill>
          <p:spPr>
            <a:xfrm>
              <a:off x="1530360" y="244440"/>
              <a:ext cx="205416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47640" y="260280"/>
              <a:ext cx="201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ory obiektywne</a:t>
              </a:r>
              <a:r>
                <a:rPr b="0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ddziałują na każdego, choć siła tego wpływu może być znacznie zróżnicow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3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rostokąt 3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Diagram 4" descr=""/>
          <p:cNvPicPr/>
          <p:nvPr/>
        </p:nvPicPr>
        <p:blipFill>
          <a:blip r:embed="rId1"/>
          <a:stretch/>
        </p:blipFill>
        <p:spPr>
          <a:xfrm>
            <a:off x="-1047600" y="2305080"/>
            <a:ext cx="10483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ole tekstowe 9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9:12:18Z</dcterms:created>
  <dc:creator>x</dc:creator>
  <dc:description/>
  <dc:language>en-US</dc:language>
  <cp:lastModifiedBy>Gosia</cp:lastModifiedBy>
  <dcterms:modified xsi:type="dcterms:W3CDTF">2013-01-31T18:29:01Z</dcterms:modified>
  <cp:revision>50</cp:revision>
  <dc:subject/>
  <dc:title>Slajd 1</dc:title>
</cp:coreProperties>
</file>